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8316-604B-4B44-BDE1-D76011A6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3D76-7F3C-47B2-9C98-D984DFAA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A5B-96A8-4B63-A7D4-6CC81101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004D-2E66-48D5-B443-C169320C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7211-2C8A-44D9-A75A-1491ADDC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E0E-7507-4540-8A91-B542D090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2BD-F8EB-465E-92D7-91B4C4E3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1AFD-5165-448B-B086-9663B3EB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2F9-7E94-45A5-AF7F-6A920B9B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397-9BC5-4E53-B78B-E16F3B4C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EFDF-18E1-42F1-915E-7D39A0EB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1A38-9EDD-4EFB-82AD-D1D4D7E2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79E2-531E-461B-B93D-25A6AEF86D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Great Depress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graphs of the Great De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9600"/>
            <a:ext cx="853452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693432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81000"/>
            <a:ext cx="876312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3452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27080"/>
            <a:ext cx="830592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20520"/>
            <a:ext cx="82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89917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Great Depression: White migrant mother with Children. Weslaco Texas. Photo by Russell Lee. Courtesy Library of Congress, Prints &amp; Photographs Division, FSA-OWI Collection LC-USF34- 032086-D"/>
          <p:cNvPicPr/>
          <p:nvPr/>
        </p:nvPicPr>
        <p:blipFill>
          <a:blip r:embed="rId1"/>
          <a:stretch/>
        </p:blipFill>
        <p:spPr>
          <a:xfrm>
            <a:off x="152280" y="168120"/>
            <a:ext cx="8991720" cy="66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55600"/>
            <a:ext cx="861048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Great Depression: Boy hopping fright train, Dubuque, Iowa. Photo by John Vachon. Courtesy Library of Congress, Prints &amp; Photographs Division, FSA-OWI Collection LC-USF33- 001772-M5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Great Depression: 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rite a letter to President Hoove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a man or woman that is feeling the hard times of the Great De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letter to President Herbert Hoover explaining how the economic situation has affected your life and your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42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52360" y="695160"/>
            <a:ext cx="683928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155520"/>
            <a:ext cx="8991720" cy="67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68400"/>
            <a:ext cx="868680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1624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23840"/>
            <a:ext cx="77724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4:44:38Z</dcterms:created>
  <dc:creator>Blair Lemons</dc:creator>
  <dc:description/>
  <dc:language>en-US</dc:language>
  <cp:lastModifiedBy>Blair Lemons</cp:lastModifiedBy>
  <dcterms:modified xsi:type="dcterms:W3CDTF">2009-03-16T19:00:09Z</dcterms:modified>
  <cp:revision>4</cp:revision>
  <dc:subject/>
  <dc:title>The Great Depression</dc:title>
</cp:coreProperties>
</file>